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20B2-6718-4F67-8494-E982A7C6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A0EB-879D-409A-9352-E3DFC1C9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7564-BDAC-486C-BD14-0365C351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A9D5-C1D6-4289-8569-C797DDF0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1E8C-B30A-48DB-B6A0-C1BF5F7B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2399-2DC2-46C1-99AF-77C17161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7BF0-CFC9-4A6E-BB51-C9690B38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9328-D4E0-4C1C-8769-586FC919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CF34-CA21-4D8C-A60A-924A29D9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71C9-411C-4C22-A6D9-8D2B05A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53D4-CDD6-40F8-8340-FB53A8A7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56E6-E9E7-4824-8466-A6B3E9B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8460-8B1B-4744-96E7-C8CB2C0E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FDB4-6A79-4196-B039-19E18EB5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2B42-55B4-4A99-919B-979B9C36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57F6-13CE-404C-8222-7184DF40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3BC8-F430-4DCC-B8D7-DA3B8B63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B87B-9C9B-43BC-91C1-F4CFB5B6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EDD4-1E98-40E4-B3F8-A24E323A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D045-7DD2-4963-9DEC-2F74246D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ED6C-1DB3-4E88-9857-7409AC7A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5D8B-EEC6-43D3-B1DC-313F013F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BF63-C650-498C-A669-25FCA41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F166-EA77-4927-9C5F-7A76DF8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F0E2-29EF-400B-90CD-2A625FD1D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4351-0F51-4259-A406-81EC787A4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360" y="1953720"/>
            <a:ext cx="764712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intext into a matrix by rows, then generate the ciphertext by selecting the columns in a given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given the plaintext “encryption algorithms” and a 5x4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049840" y="4952880"/>
            <a:ext cx="272160" cy="278280"/>
            <a:chOff x="2049840" y="4952880"/>
            <a:chExt cx="272160" cy="278280"/>
          </a:xfrm>
        </p:grpSpPr>
        <p:sp>
          <p:nvSpPr>
            <p:cNvPr id="116" name=""/>
            <p:cNvSpPr/>
            <p:nvPr/>
          </p:nvSpPr>
          <p:spPr>
            <a:xfrm>
              <a:off x="205416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8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83080" y="4952880"/>
            <a:ext cx="272160" cy="278280"/>
            <a:chOff x="1783080" y="4952880"/>
            <a:chExt cx="272160" cy="278280"/>
          </a:xfrm>
        </p:grpSpPr>
        <p:sp>
          <p:nvSpPr>
            <p:cNvPr id="119" name=""/>
            <p:cNvSpPr/>
            <p:nvPr/>
          </p:nvSpPr>
          <p:spPr>
            <a:xfrm>
              <a:off x="178740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308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6040" y="4952880"/>
            <a:ext cx="272160" cy="278280"/>
            <a:chOff x="1526040" y="49528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530360" y="4952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60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49560" y="4952880"/>
            <a:ext cx="272160" cy="278280"/>
            <a:chOff x="1249560" y="49528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25388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4956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49840" y="5219640"/>
            <a:ext cx="272160" cy="277920"/>
            <a:chOff x="2049840" y="5219640"/>
            <a:chExt cx="272160" cy="277920"/>
          </a:xfrm>
        </p:grpSpPr>
        <p:sp>
          <p:nvSpPr>
            <p:cNvPr id="128" name=""/>
            <p:cNvSpPr/>
            <p:nvPr/>
          </p:nvSpPr>
          <p:spPr>
            <a:xfrm>
              <a:off x="205416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98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83080" y="5219640"/>
            <a:ext cx="272160" cy="277920"/>
            <a:chOff x="1783080" y="5219640"/>
            <a:chExt cx="272160" cy="277920"/>
          </a:xfrm>
        </p:grpSpPr>
        <p:sp>
          <p:nvSpPr>
            <p:cNvPr id="131" name=""/>
            <p:cNvSpPr/>
            <p:nvPr/>
          </p:nvSpPr>
          <p:spPr>
            <a:xfrm>
              <a:off x="178740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308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6040" y="5219640"/>
            <a:ext cx="272160" cy="277920"/>
            <a:chOff x="1526040" y="5219640"/>
            <a:chExt cx="272160" cy="277920"/>
          </a:xfrm>
        </p:grpSpPr>
        <p:sp>
          <p:nvSpPr>
            <p:cNvPr id="134" name=""/>
            <p:cNvSpPr/>
            <p:nvPr/>
          </p:nvSpPr>
          <p:spPr>
            <a:xfrm>
              <a:off x="1530360" y="52196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60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49560" y="5219640"/>
            <a:ext cx="272160" cy="277920"/>
            <a:chOff x="1249560" y="5219640"/>
            <a:chExt cx="272160" cy="277920"/>
          </a:xfrm>
        </p:grpSpPr>
        <p:sp>
          <p:nvSpPr>
            <p:cNvPr id="137" name=""/>
            <p:cNvSpPr/>
            <p:nvPr/>
          </p:nvSpPr>
          <p:spPr>
            <a:xfrm>
              <a:off x="125388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4956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49840" y="5486400"/>
            <a:ext cx="272160" cy="277920"/>
            <a:chOff x="2049840" y="5486400"/>
            <a:chExt cx="272160" cy="277920"/>
          </a:xfrm>
        </p:grpSpPr>
        <p:sp>
          <p:nvSpPr>
            <p:cNvPr id="140" name=""/>
            <p:cNvSpPr/>
            <p:nvPr/>
          </p:nvSpPr>
          <p:spPr>
            <a:xfrm>
              <a:off x="205416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98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83080" y="5486400"/>
            <a:ext cx="272160" cy="277920"/>
            <a:chOff x="1783080" y="5486400"/>
            <a:chExt cx="272160" cy="277920"/>
          </a:xfrm>
        </p:grpSpPr>
        <p:sp>
          <p:nvSpPr>
            <p:cNvPr id="143" name=""/>
            <p:cNvSpPr/>
            <p:nvPr/>
          </p:nvSpPr>
          <p:spPr>
            <a:xfrm>
              <a:off x="178740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308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6040" y="5486400"/>
            <a:ext cx="272160" cy="277920"/>
            <a:chOff x="1526040" y="5486400"/>
            <a:chExt cx="272160" cy="277920"/>
          </a:xfrm>
        </p:grpSpPr>
        <p:sp>
          <p:nvSpPr>
            <p:cNvPr id="146" name=""/>
            <p:cNvSpPr/>
            <p:nvPr/>
          </p:nvSpPr>
          <p:spPr>
            <a:xfrm>
              <a:off x="1530360" y="54864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49560" y="5486400"/>
            <a:ext cx="272160" cy="277920"/>
            <a:chOff x="1249560" y="5486400"/>
            <a:chExt cx="272160" cy="277920"/>
          </a:xfrm>
        </p:grpSpPr>
        <p:sp>
          <p:nvSpPr>
            <p:cNvPr id="149" name=""/>
            <p:cNvSpPr/>
            <p:nvPr/>
          </p:nvSpPr>
          <p:spPr>
            <a:xfrm>
              <a:off x="125388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56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49840" y="5753160"/>
            <a:ext cx="272160" cy="277920"/>
            <a:chOff x="2049840" y="5753160"/>
            <a:chExt cx="272160" cy="277920"/>
          </a:xfrm>
        </p:grpSpPr>
        <p:sp>
          <p:nvSpPr>
            <p:cNvPr id="152" name=""/>
            <p:cNvSpPr/>
            <p:nvPr/>
          </p:nvSpPr>
          <p:spPr>
            <a:xfrm>
              <a:off x="205416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98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83080" y="5753160"/>
            <a:ext cx="272160" cy="277920"/>
            <a:chOff x="1783080" y="5753160"/>
            <a:chExt cx="272160" cy="277920"/>
          </a:xfrm>
        </p:grpSpPr>
        <p:sp>
          <p:nvSpPr>
            <p:cNvPr id="155" name=""/>
            <p:cNvSpPr/>
            <p:nvPr/>
          </p:nvSpPr>
          <p:spPr>
            <a:xfrm>
              <a:off x="178740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308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6040" y="5753160"/>
            <a:ext cx="272160" cy="277920"/>
            <a:chOff x="1526040" y="5753160"/>
            <a:chExt cx="272160" cy="277920"/>
          </a:xfrm>
        </p:grpSpPr>
        <p:sp>
          <p:nvSpPr>
            <p:cNvPr id="158" name=""/>
            <p:cNvSpPr/>
            <p:nvPr/>
          </p:nvSpPr>
          <p:spPr>
            <a:xfrm>
              <a:off x="1530360" y="57531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60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49560" y="5753160"/>
            <a:ext cx="272160" cy="277920"/>
            <a:chOff x="1249560" y="5753160"/>
            <a:chExt cx="272160" cy="277920"/>
          </a:xfrm>
        </p:grpSpPr>
        <p:sp>
          <p:nvSpPr>
            <p:cNvPr id="161" name=""/>
            <p:cNvSpPr/>
            <p:nvPr/>
          </p:nvSpPr>
          <p:spPr>
            <a:xfrm>
              <a:off x="125388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56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49840" y="6010200"/>
            <a:ext cx="272160" cy="278280"/>
            <a:chOff x="2049840" y="601020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205416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98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83080" y="6010200"/>
            <a:ext cx="272160" cy="278280"/>
            <a:chOff x="1783080" y="601020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178740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08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6040" y="6010200"/>
            <a:ext cx="272160" cy="278280"/>
            <a:chOff x="1526040" y="601020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1530360" y="601020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49560" y="6010200"/>
            <a:ext cx="272160" cy="278280"/>
            <a:chOff x="1249560" y="601020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125388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956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173760" y="5629320"/>
            <a:ext cx="1338480" cy="277920"/>
            <a:chOff x="3173760" y="5629320"/>
            <a:chExt cx="1338480" cy="277920"/>
          </a:xfrm>
        </p:grpSpPr>
        <p:grpSp>
          <p:nvGrpSpPr>
            <p:cNvPr id="176" name=""/>
            <p:cNvGrpSpPr/>
            <p:nvPr/>
          </p:nvGrpSpPr>
          <p:grpSpPr>
            <a:xfrm>
              <a:off x="3983040" y="5629320"/>
              <a:ext cx="272160" cy="277920"/>
              <a:chOff x="3983040" y="562932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8736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30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0080" y="5629320"/>
              <a:ext cx="272160" cy="277920"/>
              <a:chOff x="4240080" y="5629320"/>
              <a:chExt cx="272160" cy="277920"/>
            </a:xfrm>
          </p:grpSpPr>
          <p:sp>
            <p:nvSpPr>
              <p:cNvPr id="180" name=""/>
              <p:cNvSpPr/>
              <p:nvPr/>
            </p:nvSpPr>
            <p:spPr>
              <a:xfrm>
                <a:off x="42444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400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16280" y="5629320"/>
              <a:ext cx="272160" cy="277920"/>
              <a:chOff x="3716280" y="5629320"/>
              <a:chExt cx="272160" cy="277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206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9520" y="5629320"/>
              <a:ext cx="272160" cy="277920"/>
              <a:chOff x="3449520" y="5629320"/>
              <a:chExt cx="272160" cy="27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3453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73760" y="5629320"/>
              <a:ext cx="272160" cy="277920"/>
              <a:chOff x="3173760" y="5629320"/>
              <a:chExt cx="272160" cy="27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7808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3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233360" y="4657680"/>
            <a:ext cx="1095120" cy="377640"/>
            <a:chOff x="1233360" y="4657680"/>
            <a:chExt cx="1095120" cy="377640"/>
          </a:xfrm>
        </p:grpSpPr>
        <p:sp>
          <p:nvSpPr>
            <p:cNvPr id="192" name=""/>
            <p:cNvSpPr/>
            <p:nvPr/>
          </p:nvSpPr>
          <p:spPr>
            <a:xfrm>
              <a:off x="12333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85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60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328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69800" y="4867200"/>
            <a:ext cx="47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 the columns in the order 4 - 2 - 1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78800" y="4095720"/>
            <a:ext cx="1037880" cy="838080"/>
            <a:chOff x="6778800" y="4095720"/>
            <a:chExt cx="1037880" cy="838080"/>
          </a:xfrm>
        </p:grpSpPr>
        <p:sp>
          <p:nvSpPr>
            <p:cNvPr id="198" name=""/>
            <p:cNvSpPr/>
            <p:nvPr/>
          </p:nvSpPr>
          <p:spPr>
            <a:xfrm>
              <a:off x="6868800" y="4095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8800" y="493380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42908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73360" y="4952880"/>
            <a:ext cx="280800" cy="1326240"/>
            <a:chOff x="1773360" y="4952880"/>
            <a:chExt cx="280800" cy="1326240"/>
          </a:xfrm>
        </p:grpSpPr>
        <p:grpSp>
          <p:nvGrpSpPr>
            <p:cNvPr id="202" name=""/>
            <p:cNvGrpSpPr/>
            <p:nvPr/>
          </p:nvGrpSpPr>
          <p:grpSpPr>
            <a:xfrm>
              <a:off x="1773360" y="4952880"/>
              <a:ext cx="280800" cy="278280"/>
              <a:chOff x="1773360" y="4952880"/>
              <a:chExt cx="280800" cy="27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78740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36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773360" y="5210280"/>
              <a:ext cx="280800" cy="278280"/>
              <a:chOff x="1773360" y="5210280"/>
              <a:chExt cx="280800" cy="27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78740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7336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773360" y="5476680"/>
              <a:ext cx="280800" cy="278280"/>
              <a:chOff x="1773360" y="5476680"/>
              <a:chExt cx="280800" cy="27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8740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7336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73360" y="5743440"/>
              <a:ext cx="280800" cy="278280"/>
              <a:chOff x="1773360" y="5743440"/>
              <a:chExt cx="280800" cy="27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178740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7336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73360" y="6000840"/>
              <a:ext cx="280800" cy="278280"/>
              <a:chOff x="1773360" y="6000840"/>
              <a:chExt cx="280800" cy="2782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8740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336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2049840" y="4952880"/>
            <a:ext cx="280080" cy="1326240"/>
            <a:chOff x="2049840" y="4952880"/>
            <a:chExt cx="280080" cy="1326240"/>
          </a:xfrm>
        </p:grpSpPr>
        <p:grpSp>
          <p:nvGrpSpPr>
            <p:cNvPr id="218" name=""/>
            <p:cNvGrpSpPr/>
            <p:nvPr/>
          </p:nvGrpSpPr>
          <p:grpSpPr>
            <a:xfrm>
              <a:off x="2049840" y="4952880"/>
              <a:ext cx="280080" cy="278280"/>
              <a:chOff x="2049840" y="4952880"/>
              <a:chExt cx="280080" cy="278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063520" y="49528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984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49840" y="5210280"/>
              <a:ext cx="280080" cy="278280"/>
              <a:chOff x="2049840" y="5210280"/>
              <a:chExt cx="280080" cy="278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63520" y="52102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4984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49840" y="5476680"/>
              <a:ext cx="280080" cy="278280"/>
              <a:chOff x="2049840" y="5476680"/>
              <a:chExt cx="280080" cy="27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063520" y="54766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4984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049840" y="5743440"/>
              <a:ext cx="280080" cy="278280"/>
              <a:chOff x="2049840" y="5743440"/>
              <a:chExt cx="280080" cy="278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063520" y="57434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984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049840" y="6000840"/>
              <a:ext cx="280080" cy="278280"/>
              <a:chOff x="2049840" y="6000840"/>
              <a:chExt cx="280080" cy="27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063520" y="60008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984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2390760" y="5457960"/>
            <a:ext cx="6573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21320" y="5629320"/>
            <a:ext cx="1339200" cy="277920"/>
            <a:chOff x="4621320" y="5629320"/>
            <a:chExt cx="1339200" cy="277920"/>
          </a:xfrm>
        </p:grpSpPr>
        <p:grpSp>
          <p:nvGrpSpPr>
            <p:cNvPr id="235" name=""/>
            <p:cNvGrpSpPr/>
            <p:nvPr/>
          </p:nvGrpSpPr>
          <p:grpSpPr>
            <a:xfrm>
              <a:off x="5430960" y="5629320"/>
              <a:ext cx="272160" cy="277920"/>
              <a:chOff x="5430960" y="5629320"/>
              <a:chExt cx="272160" cy="277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352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09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88360" y="5629320"/>
              <a:ext cx="272160" cy="277920"/>
              <a:chOff x="5688360" y="5629320"/>
              <a:chExt cx="272160" cy="277920"/>
            </a:xfrm>
          </p:grpSpPr>
          <p:sp>
            <p:nvSpPr>
              <p:cNvPr id="239" name=""/>
              <p:cNvSpPr/>
              <p:nvPr/>
            </p:nvSpPr>
            <p:spPr>
              <a:xfrm>
                <a:off x="56926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83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164560" y="5629320"/>
              <a:ext cx="272160" cy="277920"/>
              <a:chOff x="5164560" y="5629320"/>
              <a:chExt cx="272160" cy="277920"/>
            </a:xfrm>
          </p:grpSpPr>
          <p:sp>
            <p:nvSpPr>
              <p:cNvPr id="242" name=""/>
              <p:cNvSpPr/>
              <p:nvPr/>
            </p:nvSpPr>
            <p:spPr>
              <a:xfrm>
                <a:off x="5168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897800" y="5629320"/>
              <a:ext cx="272160" cy="277920"/>
              <a:chOff x="4897800" y="5629320"/>
              <a:chExt cx="272160" cy="277920"/>
            </a:xfrm>
          </p:grpSpPr>
          <p:sp>
            <p:nvSpPr>
              <p:cNvPr id="245" name=""/>
              <p:cNvSpPr/>
              <p:nvPr/>
            </p:nvSpPr>
            <p:spPr>
              <a:xfrm>
                <a:off x="49021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78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621320" y="5629320"/>
              <a:ext cx="272160" cy="277920"/>
              <a:chOff x="4621320" y="5629320"/>
              <a:chExt cx="27216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6256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213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069240" y="5629320"/>
            <a:ext cx="1339200" cy="277920"/>
            <a:chOff x="6069240" y="5629320"/>
            <a:chExt cx="1339200" cy="277920"/>
          </a:xfrm>
        </p:grpSpPr>
        <p:grpSp>
          <p:nvGrpSpPr>
            <p:cNvPr id="251" name=""/>
            <p:cNvGrpSpPr/>
            <p:nvPr/>
          </p:nvGrpSpPr>
          <p:grpSpPr>
            <a:xfrm>
              <a:off x="6878880" y="5629320"/>
              <a:ext cx="272160" cy="277920"/>
              <a:chOff x="6878880" y="5629320"/>
              <a:chExt cx="272160" cy="27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68832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88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136280" y="5629320"/>
              <a:ext cx="272160" cy="277920"/>
              <a:chOff x="7136280" y="5629320"/>
              <a:chExt cx="272160" cy="277920"/>
            </a:xfrm>
          </p:grpSpPr>
          <p:sp>
            <p:nvSpPr>
              <p:cNvPr id="255" name=""/>
              <p:cNvSpPr/>
              <p:nvPr/>
            </p:nvSpPr>
            <p:spPr>
              <a:xfrm>
                <a:off x="71406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3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612480" y="5629320"/>
              <a:ext cx="272160" cy="277920"/>
              <a:chOff x="6612480" y="5629320"/>
              <a:chExt cx="272160" cy="277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6168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124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45720" y="5629320"/>
              <a:ext cx="272160" cy="277920"/>
              <a:chOff x="6345720" y="5629320"/>
              <a:chExt cx="272160" cy="277920"/>
            </a:xfrm>
          </p:grpSpPr>
          <p:sp>
            <p:nvSpPr>
              <p:cNvPr id="261" name=""/>
              <p:cNvSpPr/>
              <p:nvPr/>
            </p:nvSpPr>
            <p:spPr>
              <a:xfrm>
                <a:off x="635004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57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69240" y="5629320"/>
              <a:ext cx="272160" cy="277920"/>
              <a:chOff x="6069240" y="5629320"/>
              <a:chExt cx="272160" cy="277920"/>
            </a:xfrm>
          </p:grpSpPr>
          <p:sp>
            <p:nvSpPr>
              <p:cNvPr id="264" name=""/>
              <p:cNvSpPr/>
              <p:nvPr/>
            </p:nvSpPr>
            <p:spPr>
              <a:xfrm>
                <a:off x="607356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692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7526520" y="5629320"/>
            <a:ext cx="1339200" cy="277920"/>
            <a:chOff x="7526520" y="5629320"/>
            <a:chExt cx="1339200" cy="277920"/>
          </a:xfrm>
        </p:grpSpPr>
        <p:grpSp>
          <p:nvGrpSpPr>
            <p:cNvPr id="267" name=""/>
            <p:cNvGrpSpPr/>
            <p:nvPr/>
          </p:nvGrpSpPr>
          <p:grpSpPr>
            <a:xfrm>
              <a:off x="8336160" y="5629320"/>
              <a:ext cx="272160" cy="277920"/>
              <a:chOff x="8336160" y="5629320"/>
              <a:chExt cx="27216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83404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361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93560" y="5629320"/>
              <a:ext cx="272160" cy="277920"/>
              <a:chOff x="8593560" y="5629320"/>
              <a:chExt cx="27216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8597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3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69760" y="5629320"/>
              <a:ext cx="272160" cy="277920"/>
              <a:chOff x="8069760" y="5629320"/>
              <a:chExt cx="27216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740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69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803000" y="5629320"/>
              <a:ext cx="272160" cy="277920"/>
              <a:chOff x="7803000" y="5629320"/>
              <a:chExt cx="27216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78073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030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26520" y="5629320"/>
              <a:ext cx="272160" cy="277920"/>
              <a:chOff x="7526520" y="5629320"/>
              <a:chExt cx="272160" cy="27792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0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506600" y="4952880"/>
            <a:ext cx="280800" cy="1326240"/>
            <a:chOff x="1506600" y="4952880"/>
            <a:chExt cx="280800" cy="1326240"/>
          </a:xfrm>
        </p:grpSpPr>
        <p:grpSp>
          <p:nvGrpSpPr>
            <p:cNvPr id="283" name=""/>
            <p:cNvGrpSpPr/>
            <p:nvPr/>
          </p:nvGrpSpPr>
          <p:grpSpPr>
            <a:xfrm>
              <a:off x="1506600" y="4952880"/>
              <a:ext cx="280800" cy="278280"/>
              <a:chOff x="1506600" y="4952880"/>
              <a:chExt cx="28080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06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66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06600" y="5210280"/>
              <a:ext cx="280800" cy="278280"/>
              <a:chOff x="1506600" y="5210280"/>
              <a:chExt cx="28080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06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066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06600" y="5476680"/>
              <a:ext cx="280800" cy="278280"/>
              <a:chOff x="1506600" y="5476680"/>
              <a:chExt cx="28080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206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066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06600" y="5743440"/>
              <a:ext cx="280800" cy="278280"/>
              <a:chOff x="1506600" y="5743440"/>
              <a:chExt cx="28080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5206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66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506600" y="6000840"/>
              <a:ext cx="280800" cy="278280"/>
              <a:chOff x="1506600" y="6000840"/>
              <a:chExt cx="28080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206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066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733400" y="5133960"/>
            <a:ext cx="287676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40200" y="4952880"/>
            <a:ext cx="280800" cy="1326240"/>
            <a:chOff x="1240200" y="4952880"/>
            <a:chExt cx="280800" cy="1326240"/>
          </a:xfrm>
        </p:grpSpPr>
        <p:grpSp>
          <p:nvGrpSpPr>
            <p:cNvPr id="300" name=""/>
            <p:cNvGrpSpPr/>
            <p:nvPr/>
          </p:nvGrpSpPr>
          <p:grpSpPr>
            <a:xfrm>
              <a:off x="1240200" y="4952880"/>
              <a:ext cx="280800" cy="278280"/>
              <a:chOff x="1240200" y="4952880"/>
              <a:chExt cx="280800" cy="27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2542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402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40200" y="5210280"/>
              <a:ext cx="280800" cy="278280"/>
              <a:chOff x="1240200" y="5210280"/>
              <a:chExt cx="280800" cy="27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542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402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40200" y="5476680"/>
              <a:ext cx="280800" cy="278280"/>
              <a:chOff x="1240200" y="5476680"/>
              <a:chExt cx="280800" cy="27828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42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402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40200" y="5743440"/>
              <a:ext cx="280800" cy="278280"/>
              <a:chOff x="1240200" y="5743440"/>
              <a:chExt cx="280800" cy="27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542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402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240200" y="6000840"/>
              <a:ext cx="280800" cy="278280"/>
              <a:chOff x="1240200" y="6000840"/>
              <a:chExt cx="280800" cy="27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12542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402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1486080" y="5019840"/>
            <a:ext cx="455292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5095800"/>
            <a:ext cx="54864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DE20-CFBA-4957-B77F-0CAF21C35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1840" y="216360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94760" y="39686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an be specified by a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5040" y="4741920"/>
            <a:ext cx="57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length of the keyword is the number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38956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of the letters in the keyword determ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in which the columns ar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DC82-96FB-4175-BA80-F2A1F10D0D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3560" y="4896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542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14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628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55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349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1640" y="55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1CA2-58B9-4FCB-B837-2E8532B677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11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lect Column Transposition, CAP presents a key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81320" y="2263680"/>
            <a:ext cx="459108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764E-49AC-486E-B9FF-290524936D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5T03:20:09Z</dcterms:modified>
  <cp:revision>72</cp:revision>
  <dc:subject/>
  <dc:title>CAP Cryptographic Analysis Program</dc:title>
</cp:coreProperties>
</file>